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273-A66C-4299-BB91-7D9632D7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E9F-54C1-4C45-BA72-5BD46E7F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203-432B-41FF-90AA-4EEC3D31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846-6EB0-4A90-8429-DEE47CA3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4C63-7FB5-45EB-B1F4-2AED0F0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68B-D46D-4336-AA89-97A5A3F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2F0-0BA0-4E8C-A41B-ACAA1A5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29C-AE4D-48F5-B3C1-09E6913A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9C1B-452E-47D5-B107-986DB6F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865-B833-418A-803B-D3FC459E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4BC-FDE0-4B4A-843B-AD21772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2FC-DFD6-4B52-AABB-B456271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AD86-B3FB-41EA-82A7-7D7EC24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1CF7-7D44-499B-8D40-AB54670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8F3-7D6A-4887-9207-85E75CD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5A6-587F-470B-99FD-3139EF5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2DE-66EE-404F-9B75-16A54CBB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52C2-09BF-43E7-AD38-E70ABA42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C407-734D-40E4-AA90-588E2F1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320A-CE5F-4890-B7AB-7230903C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590F-6D6F-4A4E-98B6-7B1F119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F344-3E84-4386-9259-FFD30D6A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50A-4588-4BCE-BFA3-818710F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3A91-BA9B-4C02-BB06-EBF629A1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E078-C2EB-464F-8352-F60E993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6894-DF0C-400E-9867-F83EC55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38E3-1B0E-484B-AB6B-6210C91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3BFE-F55C-462D-835D-CDAAAB0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3CB4-2983-4655-BACF-E0D7F879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606C-B54B-422E-B01B-C829FAD5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65D3-BD60-4EFD-B8FF-74E8F037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4890-BFAD-4FE5-ACDB-013B4503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7BD7-43DC-49E6-8A09-9C9E0F28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850-80BB-43AA-93DE-265BD15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AA400-2BB8-40EA-8F2C-5F87D78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EE1D-C31B-4347-B53D-C25007F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BE04-38A1-4AF8-ADDC-78EE1E3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FD07-F57D-41D2-B3CB-3D589FF6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7D59-773B-48ED-A058-C3C4841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23883-DA77-4BA8-BA98-50CE5F4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70D9-4566-4264-B1C2-43D2A9C2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AE8A-666B-426E-97AA-8E9E78A0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B084-409F-42F8-81E0-4A67EBC4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C54-D2A2-48C4-90F0-0475C0E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EBE-2CE5-414E-860A-DBC3E3E4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4E8-1516-4C8B-B71B-62F895C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17B-0D9E-4715-8748-FA7318C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F59-1F33-4CDB-BCE1-0FDE5CB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D92-2969-471F-BD48-855EE2B542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965A-862D-462D-976D-A4E2BA4C69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067-DAA5-442C-A67A-E9A740717F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3C43-6F90-49C9-96FB-6500A7D9187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6" descr="custom8.gif"/>
          <p:cNvPicPr/>
          <p:nvPr/>
        </p:nvPicPr>
        <p:blipFill>
          <a:blip r:embed="rId1"/>
          <a:stretch/>
        </p:blipFill>
        <p:spPr>
          <a:xfrm>
            <a:off x="6858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3646-D9C2-474B-97F1-2EC4A32F4B0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BFCE-5883-4C77-B0EE-E83E3B0EFF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33520" y="144792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Now, calculate the average of each subject :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AVERGAE implied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func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custom calculations 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        (sum/count)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5B32-42D4-40B1-B4CF-41B5968C49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custon9.gif"/>
          <p:cNvPicPr/>
          <p:nvPr/>
        </p:nvPicPr>
        <p:blipFill>
          <a:blip r:embed="rId1"/>
          <a:stretch/>
        </p:blipFill>
        <p:spPr>
          <a:xfrm>
            <a:off x="457200" y="17524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1FB-7D7B-42C3-8423-CD158FADAF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custom10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of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,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, Sub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3*5 = 2+ (3*5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+5= (2/3)+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rackets if you are confu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E42-448D-47E0-9930-DC1551AA66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Then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ar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 statement (option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If Mary’s Mark in subject1 &gt; 6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n, She pas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lse, She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7413-F2D9-46DD-A68E-4E2ED2A429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u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&lt;logical statement&gt;, &lt;true statement&gt;, &lt;false statement&gt;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B4&gt;60,"pass","fail"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If your result is string or you are testing string, you should use “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AC8-D59A-4579-98C2-59BB90FFDB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Content Placeholder 6" descr="If1.gif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A2E-4165-49A3-BA9C-6E70F2F13E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Content Placeholder 6" descr="If2.gif"/>
          <p:cNvPicPr/>
          <p:nvPr/>
        </p:nvPicPr>
        <p:blipFill>
          <a:blip r:embed="rId1"/>
          <a:stretch/>
        </p:blipFill>
        <p:spPr>
          <a:xfrm>
            <a:off x="1066680" y="243828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F9E-5483-4912-B010-C971EA4AC7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352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how to make if statement for subject 2 using Insert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8586-72CA-4AAA-AEF8-469F8BE3E4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8" descr="If3.gif"/>
          <p:cNvPicPr/>
          <p:nvPr/>
        </p:nvPicPr>
        <p:blipFill>
          <a:blip r:embed="rId1"/>
          <a:stretch/>
        </p:blipFill>
        <p:spPr>
          <a:xfrm>
            <a:off x="762120" y="1828800"/>
            <a:ext cx="71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o be covered toda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calc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vot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0FE9-2F3D-4EBA-BAAC-A8409F2184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0948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apply the function for subject 3 as wel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we want the test to 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than or equ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D9C-BD98-402B-91D1-7C8D4E36C7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sted If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bject1 &gt;= 9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ubject2 &gt;=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IF(B4&gt;=90,"A", IF(B4&gt;=70,"B", “C")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6FC3-7BCF-4FB4-88C0-3CD430C098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592-A860-4596-BF06-5D74E309C3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Content Placeholder 8" descr="If4.gif"/>
          <p:cNvPicPr/>
          <p:nvPr/>
        </p:nvPicPr>
        <p:blipFill>
          <a:blip r:embed="rId1"/>
          <a:stretch/>
        </p:blipFill>
        <p:spPr>
          <a:xfrm>
            <a:off x="380880" y="1600200"/>
            <a:ext cx="8334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500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mmarize data in understanding m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16F0-581D-4DC8-B399-AC4AC5F786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Table 7" descr=""/>
          <p:cNvPicPr/>
          <p:nvPr/>
        </p:nvPicPr>
        <p:blipFill>
          <a:blip r:embed="rId1"/>
          <a:stretch/>
        </p:blipFill>
        <p:spPr>
          <a:xfrm>
            <a:off x="1755720" y="2901960"/>
            <a:ext cx="41086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inser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vot tab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r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ere to put the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 of inter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which to be in rows and which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calculation to be performed; Max, Average,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0595-FA54-4856-B2D8-8C0F9324D6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we have a code that we want it to be replaced with a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4EB2-E224-4DCE-8536-1549BF9521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Table 6" descr=""/>
          <p:cNvPicPr/>
          <p:nvPr/>
        </p:nvPicPr>
        <p:blipFill>
          <a:blip r:embed="rId1"/>
          <a:stretch/>
        </p:blipFill>
        <p:spPr>
          <a:xfrm>
            <a:off x="5413320" y="3054240"/>
            <a:ext cx="951120" cy="1268640"/>
          </a:xfrm>
          <a:prstGeom prst="rect">
            <a:avLst/>
          </a:prstGeom>
          <a:ln w="0">
            <a:noFill/>
          </a:ln>
        </p:spPr>
      </p:pic>
      <p:pic>
        <p:nvPicPr>
          <p:cNvPr id="317" name="Table 8" descr=""/>
          <p:cNvPicPr/>
          <p:nvPr/>
        </p:nvPicPr>
        <p:blipFill>
          <a:blip r:embed="rId2"/>
          <a:stretch/>
        </p:blipFill>
        <p:spPr>
          <a:xfrm>
            <a:off x="2212920" y="3279600"/>
            <a:ext cx="1974960" cy="9446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9"/>
          <p:cNvSpPr/>
          <p:nvPr/>
        </p:nvSpPr>
        <p:spPr>
          <a:xfrm>
            <a:off x="1882440" y="51055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LOOKUP(B4,F3:G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Look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 certain text, e.g. student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117F-2F04-4C32-9ADC-47B72A80DE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Table 6" descr=""/>
          <p:cNvPicPr/>
          <p:nvPr/>
        </p:nvPicPr>
        <p:blipFill>
          <a:blip r:embed="rId1"/>
          <a:stretch/>
        </p:blipFill>
        <p:spPr>
          <a:xfrm>
            <a:off x="1835280" y="2597040"/>
            <a:ext cx="1365120" cy="11336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516240" y="419112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 want to lookup student with Id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VLOOKUP(3000,A5:B9,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ula: VLOOKUP(Value, table, column Inde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iki.ucalgary.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cienc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3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_203_Templat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 203 Lab Manual for Winter 2009 \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 tu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ondu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3085-09E1-4E04-AFCE-899F86C791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stom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your own Functions using “=“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EE01-1BAE-41A1-B28F-F12346C90F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custom1.gif"/>
          <p:cNvPicPr/>
          <p:nvPr/>
        </p:nvPicPr>
        <p:blipFill>
          <a:blip r:embed="rId1"/>
          <a:stretch/>
        </p:blipFill>
        <p:spPr>
          <a:xfrm>
            <a:off x="1066680" y="2514600"/>
            <a:ext cx="6669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ontent Placeholder 6" descr="custom2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486-D7FE-4B5B-9474-702CEA5E37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ustom3.gif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1866-0C3A-4BC7-98A7-4267A93E42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6" descr="custom4.gif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FAA-81B5-4552-9A47-22318227D9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Content Placeholder 6" descr="custom5.gif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B497-3ECE-48EA-9348-EB2783BCCE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FC8-09B7-4382-AE81-0A24A354F5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7" descr="custom7.gif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1T19:42:58Z</dcterms:modified>
  <cp:revision>56</cp:revision>
  <dc:subject/>
  <dc:title>CPSC 203</dc:title>
</cp:coreProperties>
</file>